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ct" ContentType="image/x-pict"/>
  <Override PartName="/ppt/media/image2.pct" ContentType="image/x-pict"/>
  <Override PartName="/ppt/media/image3.pct" ContentType="image/x-pi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1D417-91E0-41F6-98D3-67A0B12549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ption: sto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ntitative: st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ference (like):ordinary quo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effective:  expert qu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rt example should go here and analysis to see if it meets criter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rt example should go here and analysis to see if it meets criter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DE96-0FDC-4711-B572-F3BF702EB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C5A7-E000-421E-8B59-9A4A6E5E3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EE76-EE9E-4318-8AEE-235254D61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DF93-99AD-4D62-9B30-5E571F9A2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85926-21A0-4D01-B435-67372B45E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4F4E6-3080-4B67-B0E1-5E3D290E2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51B08-6430-4B31-95E2-4F5EE94F1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0DFE4-8726-41BD-A7CE-EDFAD1DA9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C5F17-C41B-4620-9E90-60173BA38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63BF4-69B5-4885-B590-1FDC260BB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70A47-AA55-4812-8579-B76B42C7D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5CA7-575E-46E4-9FCA-9E3F26CFA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6D865-1EC9-4F7B-9D33-C8B309D51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98D37-6F91-45F1-BB02-BA044255F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923AE-A58D-441E-8573-6E2C63007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3DA52-F679-4455-B164-9E5DACFD5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2C25F-6758-4452-807F-44B66A138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BCDA-F479-465B-8810-235152E2C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EC28-D747-4452-8C9A-7370CF7BE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A03B-6CAF-4260-82EB-6AC307629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098D-9BC6-46B1-8F02-8F402707A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7AC2-E8B4-4FFD-832F-9E2F2D329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943C-508B-4859-98D9-2D530F213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3337-D142-453E-BEB5-8C9759F2C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Osak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Osak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Osak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Osak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AB4F7-299E-4F0A-9814-BE82F5EEFF59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Osak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Osak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Osak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Osak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Osak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CAC70-A0F3-46CC-8A41-88A1B07C47DD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Osak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alatino"/>
              </a:rPr>
              <a:t>Feature Artic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523880" y="32004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Palatino"/>
              </a:rPr>
              <a:t>Supporting Your ‘Big Idea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96160" y="5838840"/>
            <a:ext cx="9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F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Here is an example of an author beginning a feature article with a lead that includes a quot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914400" y="1295280"/>
            <a:ext cx="7010280" cy="546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Palatino"/>
              </a:rPr>
              <a:t>Writing Worksh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280" y="2133720"/>
            <a:ext cx="8839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Today in your writing find a place for a quote, then find the quote you might like to inclu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" y="3429000"/>
            <a:ext cx="845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Palatino"/>
              </a:rPr>
              <a:t>As I come around, I will be asking you how your quote supports your ‘big idea’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9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9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68580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Palatino"/>
              </a:rPr>
              <a:t>Feature article writers use facts, laws, and statistics to support their ‘big idea’ and add information to the articl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066680" y="3139920"/>
            <a:ext cx="3429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  <a:ea typeface="Osaka"/>
              </a:rPr>
              <a:t>Sometimes this information is shown in graphs or ch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257800" y="3276720"/>
            <a:ext cx="220968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Palatino"/>
              </a:rPr>
              <a:t>Writing Worksh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52280" y="2133720"/>
            <a:ext cx="883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Today in your writing look for a place you might add facts, laws and/or statistic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3581280"/>
            <a:ext cx="845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Palatino"/>
              </a:rPr>
              <a:t>As I come around, I will ask you how your choice supports your ‘big idea’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9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9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8487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Palatino"/>
              </a:rPr>
              <a:t>Why use different types of informat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Feature article writers use many different types of information to support their ‘Big Idea’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They do this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Make the big idea 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Prove the big idea is accu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Make their article more inter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Match the type of information to the type of arti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Palatino"/>
              </a:rPr>
              <a:t>What different types of information do feature article writers us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1760" y="2361960"/>
            <a:ext cx="83818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Some of the types of information used are:</a:t>
            </a: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Stories of life experiences (theirs or othe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Quotes from ordinary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Quotes from expe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Facts, laws, stat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1447560"/>
            <a:ext cx="88390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Palatino"/>
              </a:rPr>
              <a:t>Feature article writers decide which type of information goes with the ‘big idea’ they want to communicate to the reade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Palatino"/>
              </a:rPr>
              <a:t>Stories Of Life Experi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838224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Can be very effective in helping the reader understand how the writer feels about the ‘big idea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62120" y="4724280"/>
            <a:ext cx="838188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  <a:ea typeface="Osaka"/>
              </a:rPr>
              <a:t>Can help the reader gain an understanding of why the topic is so important to the wri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3352680"/>
            <a:ext cx="838188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  <a:ea typeface="Osaka"/>
              </a:rPr>
              <a:t>Can help the reader think about the ‘big idea’ and make personal conn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Palatino"/>
              </a:rPr>
              <a:t>Stories Of Life Experi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" y="2438280"/>
            <a:ext cx="8381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alatino"/>
              </a:rPr>
              <a:t>These stories can come from books, personal experiences, or the experiences of other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60948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Palatino"/>
              </a:rPr>
              <a:t>Here is an example of a feature article using a life story to support a big idea…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09480" y="1066680"/>
            <a:ext cx="545148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Palatino"/>
              </a:rPr>
              <a:t>Writing Worksh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80880" y="2133720"/>
            <a:ext cx="845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Today in your writing, think of a personal story that might support your ‘big idea’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" y="3429000"/>
            <a:ext cx="845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Palatino"/>
              </a:rPr>
              <a:t>If you don’t have one yourself, who might have a story?  Where might you find o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4800600"/>
            <a:ext cx="845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I will be asking you about your story as I come around to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9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9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9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Palatino"/>
              </a:rPr>
              <a:t>Feature article writers also use quotes to support their ‘big idea’ and add important information to the articl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1760" y="2361960"/>
            <a:ext cx="83818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Quotes can be:</a:t>
            </a: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Ideas or thoughts from ordinary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Opinions from experts( sometimes these are summarized not directly quote-Dr. Smith, an important scientist believes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The expert does not have to be famous or widely recognized.  It can just be someone who is knowledgeable on the topi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4T03:58:25Z</dcterms:created>
  <dc:creator>AAPS</dc:creator>
  <dc:description/>
  <dc:language>en-US</dc:language>
  <cp:lastModifiedBy>AAPS</cp:lastModifiedBy>
  <dcterms:modified xsi:type="dcterms:W3CDTF">2005-10-20T17:48:52Z</dcterms:modified>
  <cp:revision>15</cp:revision>
  <dc:subject/>
  <dc:title>FEATURE ARTICLES</dc:title>
</cp:coreProperties>
</file>